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B089-417B-431B-8F03-21A563D36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D788-59D0-485E-83C6-4C27F0E2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C0D9-57FF-466A-A4AA-991DE751F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79AF-7F66-4630-9F53-9D325F3C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1CF8-F357-45E2-94FE-2FF28DB10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6FD0-5AC6-4251-8DFD-0882ED97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8276-7325-4F99-837B-0B9B8CD4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261D-9819-4E33-ACA3-EEDA2929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BB10-A53F-4815-B416-394C0793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74AF-57DB-42CB-BEA3-F5901551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03CE-82C2-454F-9E8A-713BE3CE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6600-EAFD-4BCD-BC7D-116EB62F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CCDE-1069-46F1-A117-F1F2CF3A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66AC-60F2-4E70-AE62-2041D99B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B0CF-5039-4BD9-B51A-0D861132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538F-B54A-42D3-A3EF-FF56A5EA1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BC15-8424-4988-8377-0621B675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621BF-A5EB-4CD4-8FFA-EB65BBDB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7F285-009F-4092-B2B7-DB513AF4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CCCF4-58C3-4BB5-8648-19ECD561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A0A38-AAAC-4C76-A5DB-D17EF7A2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C1123-B866-4CA5-ADBA-2C3F7F36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C7A3-6934-446D-B514-86C79CD6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4073D-B55A-4C21-883C-8567140E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03446-E56B-4DC8-95D3-59CDCC2F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B06A7-A757-4DB5-BA16-9F4D06BB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FE815-7DC2-49CC-91B4-F413D2D4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1CE65-F426-41C3-82C6-20D74B38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5E9AE-C736-429D-BF55-F947C4CB9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50384-B90A-4DBD-9321-39BD8515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C7A5D-59B9-43E7-9C66-929C61623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1E386-5908-4997-BBF3-16E7D235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CB423-95FC-409D-9E6E-703B2A65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6106-A560-42A1-884C-EE415043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97F0C-101F-4EEE-9FD7-77159B5F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7A6BE-C12C-4061-9EE4-5BE7262C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A8B94-9524-4EEE-969D-BA6A1473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8604D-0836-44CB-959A-109ED25F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C7FAD-4209-4860-A878-72F6F3A1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3C7B2-0407-45C3-8065-7047ABB8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B18A5-4B7B-4E86-B277-A13435B7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10D9E-F635-4061-A4F6-1ACA2F394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2137C-6233-4BA4-B46F-17975E97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006D-7783-4988-8B72-D999DC33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42FE-F3F1-437F-9ABA-2FD4CE2F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991B-ABE4-4E36-BD11-95694BBA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D862-96D1-4E6D-908C-86A9162A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9312-A12A-4D08-AA45-0AF2D2C2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6E90-3AF8-41E7-9512-49DBA7DCA97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41F5-5034-40E2-BCB8-DFAA874AE01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1AAD-B93C-40B8-8ACA-A89FD0007CC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3FD3-D566-497A-BBB5-8B1130030DD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341280" y="1365120"/>
            <a:ext cx="8497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Vlib.co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elissa Cy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formation Literac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-Lib Fac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WWW Virtual Library (VL) is the oldest catalogue on the web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reated by Tim Berners-Lee, the creator of HTML and of the Web itself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reated in 1991 at CERN in Geneva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Unlike commercial catalogues, it is run by a loose confederation of volunteers, who compile pages of key links for particular areas in which they are expert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ven though it isn't the biggest index on the Web, the VL pages are widely recognized as being amongst the highest-quality guides to particular sections of the Web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central affairs of the VL are now coordinated by an elected council. The first council took office in Jan 2000, following elections the previous year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alibri"/>
              </a:rPr>
              <a:t>Home Page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819520" cy="495288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There are 16 main headings on the homepage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Agricultur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The Art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Business and Economic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Communication and Medi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Computing and Computer Scienc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Educ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Engineering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Humanities &amp; Humanistic Studi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Information &amp; Librari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International Affair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Law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Natural Science &amp; Mathematic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Recre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Regional Studi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Social &amp; Behavioral Studi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Society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3575160" y="1295280"/>
            <a:ext cx="55688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side the V-Library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1752480"/>
            <a:ext cx="2971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a heading is selected, a page of sub-fields populate the page.  The example to the right shows the sub-fields in the ‘Social and Behavioral Sciences” head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60199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Deeper inside…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486400" y="1920960"/>
            <a:ext cx="320040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nce a sub-field is selected, a list of links ranging from mega-sites to online periodicals will be listed.  There are thousands and thousands of appropriate scholastic sit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4343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-Lib- All the Info You Ne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Picture 2" descr="C:\Users\mlyons\AppData\Local\Microsoft\Windows\Temporary Internet Files\Content.IE5\D14PK8NL\MC900040015[1].wmf"/>
          <p:cNvPicPr/>
          <p:nvPr/>
        </p:nvPicPr>
        <p:blipFill>
          <a:blip r:embed="rId1"/>
          <a:stretch/>
        </p:blipFill>
        <p:spPr>
          <a:xfrm>
            <a:off x="1371600" y="19810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2:52:00Z</dcterms:created>
  <dc:creator>mlyons</dc:creator>
  <dc:description/>
  <dc:language>en-US</dc:language>
  <cp:lastModifiedBy>mlyons</cp:lastModifiedBy>
  <dcterms:modified xsi:type="dcterms:W3CDTF">2011-07-05T14:31:42Z</dcterms:modified>
  <cp:revision>10</cp:revision>
  <dc:subject/>
  <dc:title>The WWW Virtual Library</dc:title>
</cp:coreProperties>
</file>